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DED-F7C9-4167-AB81-4145B325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085-CDDC-4087-A45D-7F1E539A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088A8-F974-4DB4-B0ED-E1790B2F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A5A80-76BD-4599-A663-CD989692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52587-2B9E-4CC1-B5D2-9FBCB41E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E6C0E-50B6-41FE-89D9-2360E487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9E310-BD0B-4F8D-AA94-5E0ADB81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84379-B01C-4042-B483-B3962A21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DD4F6-CA80-4B6C-AF7B-F2F52A0E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3DA54-9367-486F-8A92-08C689B7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1A009-8EEC-4E6D-BBC5-F6871F6E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68CA51-78B1-4BDE-97A0-493BD6A7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177-7C20-45A1-97DB-B807BA3B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271C9-59F1-4E58-9F5B-3D46F201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D7642-1973-4963-B272-7D6B9789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48F35-FA03-4900-B824-3F18AA9E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D201D-7581-49BE-97D2-0FBAE99F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274EE-B620-418A-A0FD-26DE28BD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CD130-A649-4B62-AB9D-CC3FEE4A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31346-23BE-4DBD-83BF-D4E3C6A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75C67-99EC-42E9-BAE6-F0AB66B6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CEE33-7D25-4B30-B68D-5110E41E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F2895-3D9C-4BCB-B3BB-D1621221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276-7E9C-4637-B0FC-B96E566F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269FA-429B-45C0-8416-401A669A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06C90-3568-48B9-9439-A4F4E97C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1EEAB-1481-4EC4-9CF3-6FA62603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6088D-DE6B-4FD9-8E13-B8C7A0D4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84A98-D29B-4527-9CB4-2F66D8D3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9C5A8-0CC2-4415-A13C-C3B9AF2C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2D8BA-143C-41E3-A377-F79E7908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940F0-C0A0-4FB0-A1B3-C17B8BF7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57C8B-4ADD-4363-985E-D4192BC7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73FF9-2E8B-41E2-AC7A-7F4354E9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8CDF-467B-4128-A10D-EDAC23DD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40A6E-0BAF-4198-B661-8B41F382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D60AA-23FB-4827-B360-BD23B90F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D0B34-03A1-4B5A-9845-45589881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EE24D-5A52-4E4A-BFF7-397D5CE6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D6645-E79A-4EF9-995D-8D25A873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EADA3-5DA3-4840-B4CA-9B43EE35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94BEE-20F4-47F2-8175-5E3D3369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B7422-1F06-425E-ADAA-70AEFAD6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EE005-5693-407A-9613-AA8B96C3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E4BB5-DE0F-40C0-81DE-4B4EC14A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AF89-C45F-43CA-995E-12591DFD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36C62-EC28-4C1B-869B-5EB709F4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3C563-AB04-49CD-A616-2F83E583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02201-7F2E-4F12-9AC0-556CE854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5E6A8-1C66-4CAC-A7B3-5B33C9CF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25D1D-81CE-4263-942A-199D5885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0C4F-D33B-4BEE-ADA1-C45A0A45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9843-38D7-42DA-B320-53A601FF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23B8-BC3A-4459-8C7C-9E2E8591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BF60-E12B-4C28-A1AA-B93A37FE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B65F-4D2A-4AB5-BCB1-03E4B1D3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BAF-1E81-4670-8053-019E0B87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2DB8-CA65-44AA-AFB4-CFC7F09D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B473-C523-4B8E-BA2D-A5127921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E226-9FD1-461E-A4CC-5665A9B9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0B7C-C425-407F-9AEF-C5D2891A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2313-DCD4-4CAC-93D5-029B9E49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367E-570C-434C-951A-2A345CB6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F9B36-4B01-4F88-9D61-8171F886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BC336-D311-453E-8288-8861D588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3CBC8-4DCB-4863-8317-1370D0F1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8012-116B-485F-8625-AF772248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773-A57F-4E48-A79A-712A7535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E7EEA-FA22-4609-82A8-6F98ED9C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ACB9-AE4E-42FA-8E7E-A91A1D37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15974-E52C-4EAB-98EE-4B5633FE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CFC6-DE24-403E-9C15-4427011D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FF6C3-D76F-44DA-9B1D-4264874A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7C55-6F67-467C-8448-797288F7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A42C4-1C73-4B45-8825-1306D806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30FE2-1FCC-4F31-BB66-BDC5767B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83F7-5D74-44DE-B52D-B4B82E06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F85D-46E1-4913-ACB7-BF5208C4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6BF-FE04-47CC-B8FE-E1DF9C38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03AA8-66D0-4605-B644-94C43C71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3268B-7535-4418-A0EB-F8409DA5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A1478-1488-428D-996B-CFCDA53D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F729-746D-4917-838C-A9BD1AEB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7892-AF90-42D5-AB9F-C6AA050D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1829A-724E-4866-A07B-03AFDDE7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B071B-1806-4CE7-B3C6-6E213919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EECF-E877-4560-A294-740E37A3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3557-96B9-400A-A912-35108DF3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E1945-5FDF-4CC8-8E6B-9E758229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E34-31DF-4123-92B1-818CBEDD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3EB67-6467-4A5A-BF92-100757C4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82C35-AEC3-4640-BA55-C1EA8C40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79677-ED14-49D8-AF37-0871BC66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8B34-D6B7-48E4-B171-C7804F5C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0B53D-914E-4A78-9DAB-051D18D4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A84F2-DCE4-4043-AD09-3E207C10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27868-A200-465A-A238-45934806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3CDF8-5EB8-4038-BB81-46520616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64755-A906-4617-AD42-1926402E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656C8-2735-40CD-B405-4E4922C9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5B6-0A72-4E5D-A63D-C418C1AD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37A6B-4DA8-4490-8F79-EAF9FAAD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440D1-6449-4307-BBAE-622BDFAA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0424F-2247-4A4E-A048-235861CC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F6063-6381-46EB-A531-A01B2107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8F796-374F-406A-8FAA-569CEB9C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6CFBA-2998-4D66-8C33-3F06FBDC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58F69-748B-4292-8420-930899B5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342C8-573B-41A0-91BC-B332D8EE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E40FA-0552-4AE4-BFB4-52B4472D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20DAF-1647-4778-90AF-C9FE6F14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DD7-B7B4-4D88-BB95-0770C48F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05923-9FF1-404D-9F75-4FEA734A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37A15-4938-400B-BD83-F7421320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3EB5E-7F41-497F-9355-C7B64EBB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2CDF2-9923-4AF3-91E4-17A91061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6CD7A-A363-4873-B148-17536197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AD737-D038-4FF8-8C74-2B732DB0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5C70D-6EC7-4F0E-9AFB-9514971C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11D2D-4E70-41DB-A2CF-732E40EF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83CFA-6B8D-4D20-976D-630B6430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C3C20-8691-4CA2-94DA-655D55B7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14B-5CA2-4654-8D51-AD774C0B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74588-4B8C-459A-951B-147D6A99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7E97D-4D8E-474A-99D4-52433FAC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BE0F3-C555-470C-96C4-E0DE5844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62AAC-1D1B-4B4D-AAA2-26B5A70F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E59DA-C81F-435D-AFBF-A024C0CE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BB7BD-3C95-4049-AA3A-E3F40FB5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B80F1-DA59-4875-A6C5-7F6F9D60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42DE0-F969-4BB4-97F4-1B2FF8F8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95DCB-F68F-40DD-AF2A-AEA88FDB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9C50E-4BED-4DA9-A3EC-9135C56D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E13-D62B-409D-88A9-E4CD4CCB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03B52-AEB0-490C-A6F8-403C33FD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B10D8-0619-4127-A210-ABF283A1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60A36-0AD4-4C31-91CB-5E6DE303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43F20-531A-4E12-9859-74933DD8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A021B-1ADF-48C4-85C7-92CCF032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1115D-F72A-4021-97D9-00ED1EFC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E9A90-E360-4E33-925A-6038C6F6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D73D8-0FFC-4485-8CB2-E08FE81E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8B706-34CA-415B-8AA8-9F2E3002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FFDEF-AEEA-4002-8857-80D5BF92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9556-74DE-4975-9B88-26D2981D51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25C3-87E6-4067-8A7A-B96ABA4FD0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9649-52B5-4703-B0D5-EF9B44302E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A4FF-615E-4A36-9E54-9A90CECF99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00BA-2AB2-4F09-A0E5-047EA7B2A6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4D6D-2377-4B03-B4A1-45BEE44621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E661-E263-4CCD-8764-F74062621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4CEC-6E88-4137-808E-55DA652D9D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D80E-7FA0-4605-B6C9-C6E9E73779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CE9B-BCAC-4728-86F3-91B46C48F8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3A5F-8641-4D82-8F3B-D793A44DF0F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591B-FC4E-4C12-BB50-B45D31C1A6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mensional Reaso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192240" y="2193840"/>
            <a:ext cx="87231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duce Expressions for Physical Phenomen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Exam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 What is the period of oscillation for a pendulum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1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3438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mensionless Quanti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mensional quantities can be made “dimensionless” by “normalizing” with respect to another dimensional quantity of the same dimensional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ercentages are non-dimensional numb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trai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Mach numbe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oefficient of restitu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eynold’s numbe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39" name="Picture 2" descr="http://upload.wikimedia.org/wikipedia/commons/thumb/3/3c/Bouncing_ball_strobe_edit.jpg/350px-Bouncing_ball_strobe_edit.jpg"/>
          <p:cNvPicPr/>
          <p:nvPr/>
        </p:nvPicPr>
        <p:blipFill>
          <a:blip r:embed="rId1"/>
          <a:stretch/>
        </p:blipFill>
        <p:spPr>
          <a:xfrm>
            <a:off x="6477120" y="5105520"/>
            <a:ext cx="2133360" cy="13716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http://wings.avkids.com/Book/Flight/Images/airfoil.jpg"/>
          <p:cNvPicPr/>
          <p:nvPr/>
        </p:nvPicPr>
        <p:blipFill>
          <a:blip r:embed="rId2"/>
          <a:stretch/>
        </p:blipFill>
        <p:spPr>
          <a:xfrm>
            <a:off x="3962520" y="48769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http://upload.wikimedia.org/wikipedia/commons/thumb/d/d0/FA-18_Hornet_breaking_sound_barrier_%287_July_1999%29.jpg/300px-FA-18_Hornet_breaking_sound_barrier_%287_July_1999%29.jpg"/>
          <p:cNvPicPr/>
          <p:nvPr/>
        </p:nvPicPr>
        <p:blipFill>
          <a:blip r:embed="rId3"/>
          <a:srcRect l="0" t="14018" r="20000" b="0"/>
          <a:stretch/>
        </p:blipFill>
        <p:spPr>
          <a:xfrm>
            <a:off x="6400800" y="320040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caling and Model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st large objects by building smaller mode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46b86"/>
                </a:solidFill>
                <a:latin typeface="Georgia"/>
              </a:rPr>
              <a:t>Movies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: models with scaled dimensions and scaled dynamic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46b86"/>
                </a:solidFill>
                <a:latin typeface="Georgia"/>
              </a:rPr>
              <a:t>Fluid dynamics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: rather than studying an infinite number of pipes, understand one size very well and everything follow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46b86"/>
                </a:solidFill>
                <a:latin typeface="Georgia"/>
              </a:rPr>
              <a:t>Aeronautics/automotive industry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: can test properties of full sized cars by building exact scaled mode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44" name="Picture 2" descr="http://www.wetanz.com/assets/Uploads/ModelsMinis-5.jpg"/>
          <p:cNvPicPr/>
          <p:nvPr/>
        </p:nvPicPr>
        <p:blipFill>
          <a:blip r:embed="rId1"/>
          <a:stretch/>
        </p:blipFill>
        <p:spPr>
          <a:xfrm>
            <a:off x="204840" y="4419720"/>
            <a:ext cx="3376440" cy="17524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http://www.wetanz.com/assets/Uploads/ModelsMinis.jpg"/>
          <p:cNvPicPr/>
          <p:nvPr/>
        </p:nvPicPr>
        <p:blipFill>
          <a:blip r:embed="rId2"/>
          <a:stretch/>
        </p:blipFill>
        <p:spPr>
          <a:xfrm>
            <a:off x="5562720" y="4419720"/>
            <a:ext cx="3340080" cy="173340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6"/>
          <p:cNvSpPr/>
          <p:nvPr/>
        </p:nvSpPr>
        <p:spPr>
          <a:xfrm>
            <a:off x="0" y="65199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/www.wetanz.com/models-miniatu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colorado.edu/aerospace/vs_focus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8" descr="Lawrence with model planes"/>
          <p:cNvPicPr/>
          <p:nvPr/>
        </p:nvPicPr>
        <p:blipFill>
          <a:blip r:embed="rId3"/>
          <a:stretch/>
        </p:blipFill>
        <p:spPr>
          <a:xfrm>
            <a:off x="3724200" y="4038480"/>
            <a:ext cx="1762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cal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172880" y="2285640"/>
            <a:ext cx="75135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Exothermic reaction problem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’s the biggest elephant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ought Experi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would life be like on different planets?  For example, on the moon with 1/6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e gravit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would people look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would bridges be different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would landscapes be different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map of Lake Tahoe"/>
          <p:cNvPicPr/>
          <p:nvPr/>
        </p:nvPicPr>
        <p:blipFill>
          <a:blip r:embed="rId1"/>
          <a:stretch/>
        </p:blipFill>
        <p:spPr>
          <a:xfrm>
            <a:off x="152280" y="914400"/>
            <a:ext cx="5565960" cy="5870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File:Lake Tahoe NV.jpg"/>
          <p:cNvPicPr/>
          <p:nvPr/>
        </p:nvPicPr>
        <p:blipFill>
          <a:blip r:embed="rId2"/>
          <a:stretch/>
        </p:blipFill>
        <p:spPr>
          <a:xfrm>
            <a:off x="5791320" y="257184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many gallons are in Lake Taho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mensional Reaso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asurements are meaningless without the correct use of un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Example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: “the distance from my house to school is two”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Dimens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bstract quality of measurement without scale (i.e. length, time, mas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an understand the physics of a problem by analyzing dimension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quality of a number which specifies a previously agreed upon scale (i.e. meters, seconds, gram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I and English unit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mitiv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most all units can be decomposed into 3 fundamental dimension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examples of units are in SI units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ass: M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.e. 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kilogram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or kg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ength: L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.e. 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meter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or m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ime: T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.e. 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second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or 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 also have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uminosity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.e.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candela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or c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lectrical current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.e.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Ampere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or 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mount of material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.e.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mole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or mo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rived Units (partial list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371240" y="1905120"/>
            <a:ext cx="74343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orc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newton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N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LM/T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mkg/s</a:t>
            </a:r>
            <a:r>
              <a:rPr b="0" i="1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Energy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joule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J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L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M/T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m</a:t>
            </a:r>
            <a:r>
              <a:rPr b="0" i="1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kg/s</a:t>
            </a:r>
            <a:r>
              <a:rPr b="0" i="1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ressur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pascal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Pa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M/LT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kg/(ms</a:t>
            </a:r>
            <a:r>
              <a:rPr b="0" i="1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wer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watt 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W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L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M/T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3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m</a:t>
            </a:r>
            <a:r>
              <a:rPr b="0" i="1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kg/s</a:t>
            </a:r>
            <a:r>
              <a:rPr b="0" i="1" lang="en-US" sz="1900" spc="-1" strike="noStrike" baseline="30000">
                <a:solidFill>
                  <a:srgbClr val="646b86"/>
                </a:solidFill>
                <a:latin typeface="Georgia"/>
              </a:rPr>
              <a:t>3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Velocit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L/T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m/s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cceler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L/T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m/s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mensional Analysi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ll terms in an equation must reduce to identical primitive dimension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Dimensions can be algebraically manipulated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examples: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Used to check consistency of equation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Can determine the dimensions of coefficients using dimensional analysi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Three equations that describe transport of “stuff”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ransport of momentu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ransport of hea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ransport of material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7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1371600" cy="7686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9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0" descr=""/>
          <p:cNvPicPr/>
          <p:nvPr/>
        </p:nvPicPr>
        <p:blipFill>
          <a:blip r:embed="rId2"/>
          <a:stretch/>
        </p:blipFill>
        <p:spPr>
          <a:xfrm>
            <a:off x="4735440" y="2895480"/>
            <a:ext cx="2960640" cy="84780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12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verting Dimens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versions between measurement systems can be accommodated through relationships between uni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1: convert 3m to cm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2:  95mph fastball; how fast is this in m/s ?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1 mile = 160934.4 cm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verting Dimens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versions between measurement systems can be accommodated through relationships between uni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1: convert 3m to cm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2:  95mph fastball; how fast is this in m/s ?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3:  One light-year is the distance that light travels in exactly one year.  If the speed of light is 6.7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mph, convert light-years to: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. mil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. meter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1 mi = 160934.4 c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verting Dimens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versions between measurement systems can be accommodated through relationships between uni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4440" indent="-25632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1: convert 3m to cm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4440" indent="-25632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2:  95mph fastball; how fast is this in m/s ?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4440" indent="-25632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3:  One light-year is the distance that light travels in exactly one year.  If the speed of light is 6.7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mph, convert light-years to: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772560" indent="-2145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. mil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772560" indent="-2145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. meter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772560" indent="-2145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rithmetic manipulations can take place only with identical uni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4440" indent="-25632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: 3m + 2cm = ?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6:39:48Z</dcterms:created>
  <dc:creator>Office 2004 Test Drive User</dc:creator>
  <dc:description/>
  <dc:language>en-US</dc:language>
  <cp:lastModifiedBy>Su</cp:lastModifiedBy>
  <dcterms:modified xsi:type="dcterms:W3CDTF">2009-07-06T16:44:04Z</dcterms:modified>
  <cp:revision>8</cp:revision>
  <dc:subject/>
  <dc:title>Dimensional Reasoning</dc:title>
</cp:coreProperties>
</file>